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A20-0BC1-4198-9EC3-B810912B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ADE-866B-408F-9F76-779DCBA4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D1B-0E62-4E6F-8FDF-BEC2BFA9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E4A-B523-42F5-95C8-B77CD479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508F-F732-45A2-8723-8B94CBDE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ACD3-EA43-4A5E-847B-65D0B833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DE84-C537-4F06-BC3A-7968FDF8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8A7E-3CEF-41A2-9DCF-342951B6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9A1A-09D2-4604-8261-26F374D7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7C8F-047D-4889-9AA7-795034E6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D844-1D18-4E52-ADBB-AB1BB347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DDE-B9E9-42B4-8F80-E0278F31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D034-7E65-4DC1-90B2-95C8BAE7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34A2-CCFF-4EBB-86D1-59DC1D8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CA42-0F6E-43E1-9618-88BA3412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B148-AC24-4C36-B01E-C7019198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F50-5AF6-4FDF-94B1-231EDE8B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F9A-EC9F-4C26-8349-84F7CE1D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FCA-6E41-4421-9D30-A872E388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C16-9233-4601-B401-B5A5781B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C16-4975-4056-A8D9-40F458A5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236-5722-4079-9360-DD783BE1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EF9-F630-4B5E-836D-0A4D12A4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F5E-1029-4889-83FC-88094C4D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AB82-A4D0-48C3-84BE-C740AEF75B1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D1F-1593-42B5-8658-F0B36646848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BWÓD PROSTO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KWADRA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3240" y="1120320"/>
            <a:ext cx="82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licz obwód prostokąta o długośc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 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 sumę długości jego bok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81280" y="1494000"/>
          <a:ext cx="409572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494000"/>
                    <a:ext cx="409572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213560" y="405216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B| + |BC| + |CD| + |AD| = 6 cm + 4 cm + 6 cm + 4 cm = 20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4840" y="4507920"/>
            <a:ext cx="64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. Suma długości boków prostokąta  jest równa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20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040" y="5261040"/>
            <a:ext cx="79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niose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a długości boków prostokąta jest jeg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wod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8200" y="1120320"/>
            <a:ext cx="71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znaczmy długości boków prostokąta przez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my jego obwó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2640" y="37742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Obwód = a + b + a + b = a + a + b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2680" y="4231440"/>
            <a:ext cx="79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my już, że obwód prostokąta jest równy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2 • długość + 2 • szerok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2000" y="1403280"/>
          <a:ext cx="40608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1403280"/>
                    <a:ext cx="40608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692360" y="486684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wód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wód przyjęto oznaczać przez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ąd ma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2000" y="110592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pisz obwody prostoką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24200" y="1665360"/>
          <a:ext cx="26478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4200" y="1665360"/>
                    <a:ext cx="26478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KWADRA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8200" y="1120320"/>
            <a:ext cx="71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znaczmy długości boków prostokąta przez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my jego obwó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72480" y="4066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O = a + a + a +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640" y="4906080"/>
            <a:ext cx="74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dawanie jednakowych składników możemy zastąpić mnożen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6640" y="5542560"/>
            <a:ext cx="31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4 ·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357720" y="1569960"/>
          <a:ext cx="230796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569960"/>
                    <a:ext cx="230796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11059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pisz obwody kwadra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637000" y="1719360"/>
          <a:ext cx="1473120" cy="48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1719360"/>
                    <a:ext cx="147312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7:22Z</dcterms:modified>
  <cp:revision>48</cp:revision>
  <dc:subject/>
  <dc:title>Slajd 1</dc:title>
</cp:coreProperties>
</file>